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306-5BD4-4D90-9A57-97B4EB26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338-5E8A-4762-AEAC-F9B9E3EA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3002A-43FD-4F66-89AB-AADE5B1D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0CCA6-04D4-4034-83C1-F5D1165C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3D6A4-54B6-4FED-968E-EE74494E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44B51-32F0-4D0B-A8EE-91F30B18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FE318-A8C9-4E07-B18E-D7ADC14A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F9FD7-7475-46F0-98AD-3C4181C8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F434D-BA59-46A6-B5AA-4AA42ACA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BB27E-D454-41F1-A2A5-CA71A253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3C06D-13CA-42A3-A226-6C908BC3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BAD1A-28AD-4BE0-87D1-CDF6D07B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8B8-1E8D-4B88-8403-E4368ECE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FD571-CD9D-44A2-9BAD-FBB36545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9E79D-A165-4C10-A35D-619EC754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FA42A-EC4A-42C2-81EA-85078726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4EB5B-A356-4EDD-8BD2-337C46EC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5C5EC-72AC-4DB4-B2ED-911197C2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CB76B-567E-44BD-ABD9-74388E8E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413F2-8916-4D67-9D88-313BDB1D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2359A-858A-4691-8577-5D890BE4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E763C-1917-48B6-AB60-BFB3814F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F15DB-2C76-4B5A-AA3A-5B40C32B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E449-1F56-4353-BBEA-25A10E74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051A6-59EC-4880-89FE-6E8DD608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52B0F-527F-40B0-9815-A33E0B36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DC91A-F3C2-47CE-8DEF-64AE90AF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225B1-EA30-40AD-AC71-53ACD835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B85D7-0FF0-41E3-89E0-1A4500A0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EC43E-EA56-45FA-8D6E-E2496FD2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FC813-A78C-4F81-96BB-184F496B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E0091-A31F-41D7-A342-106B3F4E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C9235-C05F-4366-99A1-F4C82B75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94D21-B427-443F-A3F5-D56303DE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8D8E-D0CA-4C0F-B1C2-B7B4360D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63DCD-4EFB-44D0-A639-46A3418D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FAB9F-2B50-445C-A270-F583D6BE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7C1B0-B5D0-4BB0-886F-1822E93D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C6BB9-7137-4422-85A8-677F9522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91B6C-2E78-406B-863A-05E98763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E5371-95CF-4F3C-B3FE-A1051511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394BD-1838-4ABD-ADDA-54AACDFB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FBC8D-61AB-4DA7-B2E2-71D64BE9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EEBC2-CA2D-40BA-873A-91C8723E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6FC81-58CF-443E-B5B1-F46153E8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6CD9-82F4-47AD-9768-572AC2C4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CF3D8-9FF6-41D1-B8C0-69A2FF0B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25D44-065E-43BB-A10F-BCD6E620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E0F65-8995-496F-8462-53724FFB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D7FFA-B1BC-436B-8A12-C3B0D5A9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CE3F4-EF38-4783-BA75-EE073D5E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6756F-12F6-4E9D-8166-6A95D694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1A528-1270-46EC-99EF-C769DDF4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6972B-D0FC-4B49-966E-56FF689F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9ABD6-FB9A-481D-B1D5-CE63D87F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5CE99-DEB1-4A68-A63B-B544F662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D996-42E9-479A-BB2D-D6CD111D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9D0AF-8684-4680-BBE3-9786EE8B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0FF6B-1635-43B4-9DA7-3F45B424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1E9F0-EE92-4C14-AA49-DD146625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42A1B-85A3-458B-B05B-D986A833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7784F-7023-4909-8C2C-6954C1C6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B619E-A73D-4875-B354-2C73E4A3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0BFB5-292F-4A63-9F9E-4AED0803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E22E9-D1E2-44B3-8851-E8886933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62D542-FAD3-48FA-ADAD-CB592FAA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6DD67-1F70-4B5D-8E0A-65CB9E94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D196-3023-4F10-86D6-DB42AB9C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6A037C-73CF-443E-B0A1-B94B9717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004304-60E1-4700-B1C6-3752E808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7BE45-1D0C-4C47-BD79-9CCEAF6B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2F968-A6BC-49B3-8F68-404B1AF9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E654C-90B7-4B4D-BF0E-61AAB598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B4A5A8-28C0-4B36-9F82-7E428DCC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E30F5-1566-46FF-933D-77E06C67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4F6087-E29A-418C-9D72-FF404DFF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DE5595-C6AC-42DD-BC94-601FC2CA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7D8F8F-E5B0-4F29-8698-A59351F7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1BD1-386F-4CEA-A83C-1EF7A2B1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759F51-68EC-4B74-9BA6-B7BDFC1E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5C604B-3CF0-401A-84D0-3A855B07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44B0C-173D-4631-B3C0-34AB5E2E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E500EA-C91D-43A4-A7FC-BF0E068E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4DD318-341E-4706-AE57-812AB201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527EC3-7634-4900-B54A-295978B9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F7AE7F-5D28-48E4-9B99-A95A0EBA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5FB12-0295-453E-AA1B-DC93BE54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C5B74A-5F07-442A-AFE5-9F95DE90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D0BBCE-02FC-46C6-AD1C-761CCDFA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5B84-5923-4EEA-9754-9D5CDF2D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12A0D7-549C-4E85-B1F5-D0EDB5CE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C319BB-BCB1-4AD7-9EFC-B9EEF8ED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0A1046-E6A2-44C9-9735-D8EBF8B2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5BE853-2400-4E57-B2CF-49836D1B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20355B-72DD-485E-A0DF-205C0DB7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78EC5F-938F-406A-83DE-8ADB1F76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4EF3C9-97F7-40D9-B877-A61224C6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BD235E-966E-408A-BCFB-8CAC78BB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18175E-BFB4-431E-85E3-14EBBAE8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55B34D-3642-4192-812A-FA9124D3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DDDD-5CB9-4577-98AD-A881387F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A4269D-AFC4-4193-97C2-749C74EB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C64318-DC50-48C6-88ED-7D082B14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F4CD67-C5D7-4D5D-A908-91B69D2B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9C69D4-1E93-4DC2-A4F4-88AC627D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4FE6DE-31C6-42D8-9073-CA3A33CA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34A0B9-C701-4EFF-B6DB-67903AB9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AD4F9-6A7F-4E91-8BC5-0C7D7896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89A0B7-349C-4FDD-B2D4-B533797B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3B2E59-F470-42B0-8228-190F7E30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760464-696D-4BC0-BA41-EDC6A9CF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F14-2B9E-4B5E-9323-16A7D6BF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82C8-8EE0-4BDC-AF2E-F78D9660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B45370-5FB1-4854-BFAB-75945F8C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6DBE86-83C1-4188-9CCC-8D220241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5A812-73E7-4595-A915-08697B0C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93FB56-8770-4163-BA7F-7D1358E4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2A4F1-EB7E-415D-A218-549222CF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2A93-B88A-4E26-B131-05ACD228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EEB7-8F9B-4AC2-A720-B3150C54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C353-C116-4205-8274-C44FAD1E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236E-0867-4294-B1D4-EFCEA286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31902-0169-462E-B8A5-2018F281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8A3CA-AEDB-401F-A770-754C57A8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8AC5C-E97B-474D-81B1-9214A50E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DBF3E-9C69-4EC5-9E36-5354DB21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3D4EA-F5A3-490C-BBCE-1A371924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18E-1DCD-4046-B6F2-70D6A64A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2EAAA-2993-46A9-B3EA-4B0D04E3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1B659-9538-4923-BEDA-890052BC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208BC-855B-46A3-AE0B-67FA6071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E95D-4C1F-4798-8C06-78C05395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896F2-A370-45D0-B5F2-34FAF4A1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8C7F9-9996-4ED5-A520-026789E2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C2A3A-74E1-47BE-9EF5-5C8F128B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D119A-91B0-4C3D-B6F3-B90F0F99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9EA26-BA93-470D-9B83-12E3CACE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A707F-2F03-4A5C-A484-C9977286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2D7-50EF-4D45-A3B6-225C738C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8EA32-A4BF-4500-8B7A-E56AC9EA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7B02F-DB04-46BF-A410-BED122F7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55191-1E1E-4373-A17B-3FE703DA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C2468-9277-4D5A-90C5-028561D9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5BBEE-5F24-4C52-9436-1C77D3D7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2C68A-ED7F-4C93-97F6-CB7EBC00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718AA-588A-4B58-A81C-6DBB1448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423BA-4507-46F9-920D-B310AC5F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89920-E3C4-4CC0-8516-3DD41CEA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BE21B-325B-4154-AF9B-BCA8CCC3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13E-A777-46D7-8501-FC8E456A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82EDF-A147-422A-A936-F54EC75F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38AB2-5314-432D-A2FC-95D69B3D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98B85-D6E9-4F5B-9FBD-3990703E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E6AF0-7115-420B-A314-1A2D69DE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7DCCF-FC15-4E8B-8E4F-13E3FD55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AFB2A-B289-44AD-9373-6C6924A1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1D530-E309-4E69-85F7-BD0EEA0B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62AE4-1CE1-4C80-B310-D54968A7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E50A4-4F3C-4910-B418-48775AA8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A3B1F-01B8-448B-82AE-0602A523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5E9-ECD9-446C-A29F-502932A8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806A3-E453-4917-BDB1-BEC0D617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FE6E4-4990-4AAB-B9E6-1E72B07D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E8FD8-D261-436D-AEBD-0FB9427A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A8BF4-0380-43A2-8F10-B6D97361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BA5BE-2CA7-4647-832E-E291F2B0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E82E2-2EDB-4426-9658-C19AC7C3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39382-F973-4408-A939-D3409D3D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01D53-8B07-42C0-975E-F35E763E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1C6AD-231F-40A2-9C03-3A99EB4D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E2207-D2BD-4680-8B6D-595F31B8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E9F-D59D-4F4A-BC56-2AC5790D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29BEC-6D23-432F-AFA0-2077B92E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BBE03-B879-4A15-8BE2-F4858680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DCF58-FFFC-4856-A07A-6A6AD500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02027-A05A-43D5-9099-6E18FDD3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12F23-ACB1-4E03-B4E8-DBBFA57E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68BD2-ADBD-4F7F-ADC1-7630D2F0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3554F-C178-4F07-8B79-80FAB2D7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7BFED-3378-4B1A-830D-5E49D447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AE915-5CEA-49C0-8A2B-89CC0575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D9DAD-DAE2-498B-BF5F-8848674E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FE5-0AFC-400F-A7F6-524EB251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D29CB-6D3F-4874-A3ED-9964B99C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8AF7A-33A0-46D2-A2DF-18582DC9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F5D33-4B8D-4877-915A-1C9DCF06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1CA86-77E0-4CAF-AF7B-DBBAE5D0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53505-E7A7-405B-860B-B94A7389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D1477-0FA0-4E02-BB58-530ECBB2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CF19E-477C-4B92-B09F-9740C27E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B1E77-D038-42F5-8086-EBD7EEE2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7062A-7595-43EA-A22E-354E0AB3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5B9E7-D155-44BD-A492-14C4442B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B2E-D946-46C1-89D4-3181D809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1D33E-37E4-454B-A35B-EABEB577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81DA7-05B7-4403-AD68-2371D66F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BE214-13A7-49F5-BFB9-17AD821E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3D1B3-5066-4A4D-8AEC-6AF52E7D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9C9A2-B42F-434E-A455-4B5490DE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27FA7-D72B-444F-8498-EAE7021E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55B31-AA36-48D6-9390-69A4208B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CC484-AA44-400E-8F95-927BBECA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AB0B3-2B0F-405D-B6C0-47B8B28E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9DC3C-913E-42A8-A49E-3EE0BFF5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EAA55-6CBA-4E9B-A7DA-EFE5E455DF4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71D76-96FE-4647-BA5E-A14C10A8757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7CF04-F60C-491A-8705-0CDDFF1A047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F1922-5D14-4BF1-B050-1A559D6A1CC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8A95B-16AA-4657-969F-74E4B01678F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9ED09-DC28-4B28-B9CB-AE7429328D1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CD9B5-9E71-4A4F-BC89-9CC1CD2EBFA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1CFA5-E700-4A96-BC30-E5782525B2A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B08DB-2320-472E-83C6-609815E37C5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35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1AD5A-2945-4F1D-8591-D1285C4241D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01BFB-6BC9-4523-95FF-5429A43E428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00991-7A17-4243-ABF4-89F26E94D81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AC2AC-87AC-4E65-8916-946C7EA1617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35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C5233-CABF-4500-B3E0-ACC0314D0AB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1386A-FA28-40C9-9242-FE18354A52E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11989-38A9-46D6-AA05-9DACE4E837B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76AC7-21EB-4921-AA0F-AE0C75EBB41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816200" y="126720"/>
            <a:ext cx="9688320" cy="850680"/>
          </a:xfrm>
          <a:prstGeom prst="rect">
            <a:avLst/>
          </a:prstGeom>
          <a:noFill/>
          <a:ln w="9360">
            <a:solidFill>
              <a:srgbClr val="a5301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ŞCOALA GIMNAZIALĂ ,,IULIA HAŞDEU”, GALAŢI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816200" y="1142640"/>
            <a:ext cx="9688320" cy="5715000"/>
          </a:xfrm>
          <a:prstGeom prst="rect">
            <a:avLst/>
          </a:prstGeom>
          <a:noFill/>
          <a:ln w="9360">
            <a:solidFill>
              <a:srgbClr val="a5301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CERC METODIC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LIMBA ŞI LITERATURA ROMÂNĂ</a:t>
            </a: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PREZENTAREA ELEMENTELOR DE NOUTATE ÎN PROGRAMA V-VII</a:t>
            </a: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DOMENIUL: ELEMENTE DE CONSTRUCŢIE A COMUNICĂRII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NOIEMBRIE 2019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1" name=""/>
          <p:cNvGraphicFramePr/>
          <p:nvPr/>
        </p:nvGraphicFramePr>
        <p:xfrm>
          <a:off x="1747800" y="0"/>
          <a:ext cx="10609200" cy="6859440"/>
        </p:xfrm>
        <a:graphic>
          <a:graphicData uri="http://schemas.openxmlformats.org/drawingml/2006/table">
            <a:tbl>
              <a:tblPr/>
              <a:tblGrid>
                <a:gridCol w="5392800"/>
                <a:gridCol w="52164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UMERALUL ÎN UNITATEA DE ÎNVĂŢ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ditura </a:t>
                      </a:r>
                      <a:r>
                        <a:rPr b="1" i="1" lang="ro-RO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rt K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UNITATEA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o-RO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umea de pe scen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585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Lectur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xtul dra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m să vă dăruim câte o fereastră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Matei Vişni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xtul dramatic. Structura, rolul indicaţiilor scenice, autor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a spectacolului. Personajul dra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lul dialogului. Dialogul în textul scris şi în spectac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nificaţiile textul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logul în textul nonliterar. Intervi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i pagini – alte id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ul unei nopţi de vară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W. Shakespeare (frag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nterculturalitate/Proi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iect de grup: de la text la spectac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municare oral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xtul dialogat. Tracul comunicat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Limbă român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Numeralul. Posibilităţi combinatorii ale numeralul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erbul. Posibilităţi combinatorii ale adverbul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jecţia. Onomatopeele. Interjecţia predicativ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dact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pare textuale de structurare a idei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re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apitul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TextBox 1"/>
          <p:cNvSpPr/>
          <p:nvPr/>
        </p:nvSpPr>
        <p:spPr>
          <a:xfrm>
            <a:off x="1917720" y="711360"/>
            <a:ext cx="9499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o-R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rm noii programe, interesează viziunea comunicativ-pragmatică, nu predarea în şi pentru sine a unor cunoştinţe gramaticale, ci abordarea funcţională şi aplicativă a acestora în calitatea lor de elemente care contribuie la structurarea unei comunicări corecte şi eficient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3" name=""/>
          <p:cNvGraphicFramePr/>
          <p:nvPr/>
        </p:nvGraphicFramePr>
        <p:xfrm>
          <a:off x="2031840" y="719280"/>
          <a:ext cx="10160280" cy="12169800"/>
        </p:xfrm>
        <a:graphic>
          <a:graphicData uri="http://schemas.openxmlformats.org/drawingml/2006/table">
            <a:tbl>
              <a:tblPr/>
              <a:tblGrid>
                <a:gridCol w="3386160"/>
                <a:gridCol w="3387960"/>
                <a:gridCol w="3386160"/>
              </a:tblGrid>
              <a:tr h="4575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RA  LECŢIE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itura 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AM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itura 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UI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itura 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 K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11068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t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ervă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amint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lă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rsă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ţi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brică: </a:t>
                      </a:r>
                      <a:r>
                        <a:rPr b="0" i="1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că vrei să ştii mai m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inteşte-ţi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operă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or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rsează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tru înce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ualiz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ibilităţi combinatorii ale numeralulu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ţ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2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4" name=""/>
          <p:cNvGraphicFramePr/>
          <p:nvPr/>
        </p:nvGraphicFramePr>
        <p:xfrm>
          <a:off x="712800" y="0"/>
          <a:ext cx="11282400" cy="6873840"/>
        </p:xfrm>
        <a:graphic>
          <a:graphicData uri="http://schemas.openxmlformats.org/drawingml/2006/table">
            <a:tbl>
              <a:tblPr/>
              <a:tblGrid>
                <a:gridCol w="4272120"/>
                <a:gridCol w="3462120"/>
                <a:gridCol w="3548160"/>
              </a:tblGrid>
              <a:tr h="43344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PORTUL  TEORE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itura 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AM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itura 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UI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itura 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 K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79996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ţ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lul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a. 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dinal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simp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comp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d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ate avea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a. valoare adjectival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valoare substantival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 valoare pronominal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ibilităţi combinatorii ale numeralulu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U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ral -Substant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U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ral -Prepoziţ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U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ral -Adject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U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ral-Articol demonstrat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cţii sintactice ale numeralului cu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are substantivală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ubiect, nume predicativ, atribut, complement direct, complement indirect, complement prepoziţional, circumstanţial de mod, circumstanţial de lo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are adjectivală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tribu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că vrei să ştii mai m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ţia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e creează prin completarea unor enunţu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ralele 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dinale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şi 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dinale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ot ave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are adjectival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valoare pronominal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o-RO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centru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reg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o-RO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adjunct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subordona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numeralele cardinale pot avea valoare substantival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ralele cu valoare pronominală îndeplinesc funcţiile sintactic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inativ (subiect, nume predicati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uzativ (atribut, complement direct, complement prepoziţioanl, circumstanţial de loc, de timp, de mo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iv (complement indirec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itiv (atribu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ţ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ate fi: a. 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dinal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simp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comp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d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ibilităţi combinator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are adjectival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are pronominal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are substantival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află în caliate de </a:t>
                      </a:r>
                      <a:r>
                        <a:rPr b="1" lang="ro-RO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adjunct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ând are valoare-adjectival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pronominal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substantival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află în calitate de </a:t>
                      </a:r>
                      <a:r>
                        <a:rPr b="1" lang="ro-RO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centru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ând are valoare -pronominal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substantival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cţii sint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TextBox 1"/>
          <p:cNvSpPr/>
          <p:nvPr/>
        </p:nvSpPr>
        <p:spPr>
          <a:xfrm>
            <a:off x="1879560" y="914400"/>
            <a:ext cx="10083960" cy="5214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a oferită de noile programe este una pragmatică, semantică, funcţională, eliminând orice tip de abordare formală a limbii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comandă, în toate cazurile, exerciţii</a:t>
            </a:r>
            <a:r>
              <a:rPr b="0" i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tip analitic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recunoaşter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grupar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motivar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descrier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diferenţi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i de tip sintetic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modificar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completar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exemplificar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construcţi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6" name="6-Point Star 4"/>
          <p:cNvSpPr/>
          <p:nvPr/>
        </p:nvSpPr>
        <p:spPr>
          <a:xfrm>
            <a:off x="3860640" y="4280040"/>
            <a:ext cx="254160" cy="330120"/>
          </a:xfrm>
          <a:custGeom>
            <a:avLst/>
            <a:gdLst/>
            <a:ahLst/>
            <a:rect l="l" t="t" r="r" b="b"/>
            <a:pathLst>
              <a:path w="254000" h="330200">
                <a:moveTo>
                  <a:pt x="0" y="82550"/>
                </a:moveTo>
                <a:lnTo>
                  <a:pt x="84666" y="82549"/>
                </a:lnTo>
                <a:lnTo>
                  <a:pt x="127000" y="0"/>
                </a:lnTo>
                <a:lnTo>
                  <a:pt x="169334" y="82549"/>
                </a:lnTo>
                <a:lnTo>
                  <a:pt x="254000" y="82550"/>
                </a:lnTo>
                <a:lnTo>
                  <a:pt x="211668" y="165100"/>
                </a:lnTo>
                <a:lnTo>
                  <a:pt x="254000" y="247650"/>
                </a:lnTo>
                <a:lnTo>
                  <a:pt x="169334" y="247651"/>
                </a:lnTo>
                <a:lnTo>
                  <a:pt x="127000" y="330200"/>
                </a:lnTo>
                <a:lnTo>
                  <a:pt x="84666" y="247651"/>
                </a:lnTo>
                <a:lnTo>
                  <a:pt x="0" y="247650"/>
                </a:lnTo>
                <a:lnTo>
                  <a:pt x="42332" y="165100"/>
                </a:lnTo>
                <a:lnTo>
                  <a:pt x="0" y="82550"/>
                </a:lnTo>
                <a:close/>
              </a:path>
            </a:pathLst>
          </a:custGeom>
          <a:solidFill>
            <a:srgbClr val="a53010"/>
          </a:solidFill>
          <a:ln cap="rnd" w="15840">
            <a:solidFill>
              <a:srgbClr val="7820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7" name="6-Point Star 7"/>
          <p:cNvSpPr/>
          <p:nvPr/>
        </p:nvSpPr>
        <p:spPr>
          <a:xfrm>
            <a:off x="3860640" y="2152800"/>
            <a:ext cx="254160" cy="291960"/>
          </a:xfrm>
          <a:custGeom>
            <a:avLst/>
            <a:gdLst/>
            <a:ahLst/>
            <a:rect l="l" t="t" r="r" b="b"/>
            <a:pathLst>
              <a:path w="254000" h="292100">
                <a:moveTo>
                  <a:pt x="0" y="73025"/>
                </a:moveTo>
                <a:lnTo>
                  <a:pt x="84666" y="73024"/>
                </a:lnTo>
                <a:lnTo>
                  <a:pt x="127000" y="0"/>
                </a:lnTo>
                <a:lnTo>
                  <a:pt x="169334" y="73024"/>
                </a:lnTo>
                <a:lnTo>
                  <a:pt x="254000" y="73025"/>
                </a:lnTo>
                <a:lnTo>
                  <a:pt x="211668" y="146050"/>
                </a:lnTo>
                <a:lnTo>
                  <a:pt x="254000" y="219075"/>
                </a:lnTo>
                <a:lnTo>
                  <a:pt x="169334" y="219076"/>
                </a:lnTo>
                <a:lnTo>
                  <a:pt x="127000" y="292100"/>
                </a:lnTo>
                <a:lnTo>
                  <a:pt x="84666" y="219076"/>
                </a:lnTo>
                <a:lnTo>
                  <a:pt x="0" y="219075"/>
                </a:lnTo>
                <a:lnTo>
                  <a:pt x="42332" y="146050"/>
                </a:lnTo>
                <a:lnTo>
                  <a:pt x="0" y="73025"/>
                </a:lnTo>
                <a:close/>
              </a:path>
            </a:pathLst>
          </a:custGeom>
          <a:solidFill>
            <a:srgbClr val="a53010"/>
          </a:solidFill>
          <a:ln cap="rnd" w="15840">
            <a:solidFill>
              <a:srgbClr val="7820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TextBox 1"/>
          <p:cNvSpPr/>
          <p:nvPr/>
        </p:nvSpPr>
        <p:spPr>
          <a:xfrm>
            <a:off x="2133720" y="0"/>
            <a:ext cx="100584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ŢII - Manu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ura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MI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ează numeralele după modelul da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ge forma corect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eşte ce parte de vorbire este cuvântul </a:t>
            </a:r>
            <a:r>
              <a:rPr b="0" i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n enunţurile de mai jo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e în caiet litera corespunzătoare răspunsului corec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ătuieşte enunţuri în care numeralul </a:t>
            </a:r>
            <a:r>
              <a:rPr b="0" i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treilea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ă îndeplinească următoarele funcţii sintacti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ne, în minimum 60 de cuvinte, o scrisoare adresată verişorului tă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ri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rei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le, în care să-i relatezi cum ţi-ai petrecut vacanţa de vară. In scrisoare trebuie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ă foloseşti formule de adresare şi de încheiere adaptate tipului de destinatar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ă foloseşti un conţinut adecvat situaţiei imaginate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ă foloseşti patru numerale pe care să le subliniezi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ă respecţi normele de exprimare, de ortografie şi de punctuaţi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Scrie un anunţ publicitar, ce poate fi publicat pe un site sau într-un ziar, în care să anunţi că ai de vânzare un telefon. Vei folosi numerale pentru a putea fi mai convingăto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TextBox 1"/>
          <p:cNvSpPr/>
          <p:nvPr/>
        </p:nvSpPr>
        <p:spPr>
          <a:xfrm>
            <a:off x="1841400" y="482760"/>
            <a:ext cx="1017288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ŢII -Manual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ura 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 KLET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ă numeralele din textul de mai jos şi precizează-le felul şi valoarea morfologic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ă numeralele cu valoare de adjunct şi completează, în caiet, tabelul de mai jo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 dintre numeralele de la exerciţiul 1 au calitatea de centru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ă numeralele din replicile următoare, extrase din textul </a:t>
            </a:r>
            <a:r>
              <a:rPr b="0" i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ul de zăpadă care voia să întâlnească soarele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Matei Vişniec, şi precizează felul lor, valoarea morfologică şi funcţia sintactic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zează funcţia sintactică a numeralelor de mai jo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 dintre numeralele din text este însoţit de un articol demonstrativ? Precizează rolul acestuia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ează numeralele cardinale în simple şi compuse. Precizează genul numeralelor ordinale dn textul da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Box 1"/>
          <p:cNvSpPr/>
          <p:nvPr/>
        </p:nvSpPr>
        <p:spPr>
          <a:xfrm>
            <a:off x="1917720" y="584280"/>
            <a:ext cx="1002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ŢII - Manu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ura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UITEX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Grupează, în caiet, numeralele din următoarele enunţuri, după valoarea lor adjectivală, pronominală sau substantival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ompletează spaţiile punctate cu răspunsurile corect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crie varianta pe care o consideri corect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Precizează, oral, funcţiile sintactice ale numeralelor din următoarele enunţuri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daugă, în scris, substantive numeralelor date, pentru a le transforma în numerale cu valoare adjectival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Indică, oral, dacă răspunsurile sunt adevărate sau fals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Construieşte, oral, enunţuri în care numeralul cardinal </a:t>
            </a:r>
            <a:r>
              <a:rPr b="0" i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i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ă aibă valoare adjectivală şi valoare pronominal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Scrie enunţuri în care cuvântul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ă fie, pe rând,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al cardinal cu valoare adjectivală, articol nehotărât, pronume personal, verb auxilia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TextBox 1"/>
          <p:cNvSpPr/>
          <p:nvPr/>
        </p:nvSpPr>
        <p:spPr>
          <a:xfrm>
            <a:off x="1955880" y="584280"/>
            <a:ext cx="10083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us de texte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terar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ate în exerciţii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ura Art Klet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i Vişniec, </a:t>
            </a:r>
            <a:r>
              <a:rPr b="0" i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ul de zăpadă care voia să atingă soarel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i Vişniec, </a:t>
            </a:r>
            <a:r>
              <a:rPr b="0" i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 să dăruim câte o fereastr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ura Arami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hita Stănescu, </a:t>
            </a:r>
            <a:r>
              <a:rPr b="0" i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ă matematic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olae Ţic, </a:t>
            </a:r>
            <a:r>
              <a:rPr b="0" i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ai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 Creangă, </a:t>
            </a:r>
            <a:r>
              <a:rPr b="0" i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ci pâni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za Roman, </a:t>
            </a:r>
            <a:r>
              <a:rPr b="0" i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na în Ţara Numerelo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ura Intuitex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Box 1"/>
          <p:cNvSpPr/>
          <p:nvPr/>
        </p:nvSpPr>
        <p:spPr>
          <a:xfrm>
            <a:off x="1917720" y="723960"/>
            <a:ext cx="962676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ZII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lasa a VII-a, </a:t>
            </a:r>
            <a:r>
              <a:rPr b="1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alul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are în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atea de învăţare V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în toate manualele, la Editura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mis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itatea se numeşte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nele lumii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Editura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uitext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ile se întâlnesc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Editura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mea de pe scenă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e acestor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ăţi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nt elementele de construcţie a comunicării: </a:t>
            </a:r>
            <a:r>
              <a:rPr b="1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ectivul, Numeralul, Adverbul, Interjecţia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toate manualele, cunoştinţele sunt actualizate în rubrici, de tipul: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im, Aminteşte-ţi, Pentru început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ţinutul ştiinţific din manuale este corect, complet, bine structurat, explicat de la simplu la complex, urmărindu-se un demers deductiv; o observaţie: apare funcţia sintactică de </a:t>
            </a:r>
            <a:r>
              <a:rPr b="0" lang="ro-RO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ribut adjectival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loc de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ibut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form programei şcolar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ualul de la Editura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mis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pare o rubrică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ă vrei să ştii mai mult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de sunt incluse ceea ce se prezintă în gramatică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 expresii cu numeral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cinile de învăţare sunt variate, au caracter funcţional, exerciţiile sunt de tip analitic: de recunoaştere, grupare, motivare şi de tip sintetic: modificare, completare, exemplificar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ualele de la Editura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mis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şi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 Klett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xerciţiile au ca suport fragmente de texte literare din: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ul de zăpadă care voia să atingă soarel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. Vişniec,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 să dăruim câte o fereastră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. Vişniec,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aia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. Ţic,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ci pâni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. Creangă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Content Placeholder 4" descr="Pile of Five Books · Free Stock Photo"/>
          <p:cNvPicPr/>
          <p:nvPr/>
        </p:nvPicPr>
        <p:blipFill>
          <a:blip r:embed="rId1"/>
          <a:stretch/>
        </p:blipFill>
        <p:spPr>
          <a:xfrm>
            <a:off x="2617920" y="0"/>
            <a:ext cx="9053280" cy="6730920"/>
          </a:xfrm>
          <a:prstGeom prst="rect">
            <a:avLst/>
          </a:prstGeom>
          <a:ln w="0">
            <a:noFill/>
          </a:ln>
        </p:spPr>
      </p:pic>
      <p:sp>
        <p:nvSpPr>
          <p:cNvPr id="1179" name="TextBox 6"/>
          <p:cNvSpPr/>
          <p:nvPr/>
        </p:nvSpPr>
        <p:spPr>
          <a:xfrm>
            <a:off x="8991720" y="60199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Bute Ionic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781000" y="126720"/>
            <a:ext cx="872316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NUMERALUL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Content Placeholder 3" descr="The Teacher Reads | Assailed Teacher"/>
          <p:cNvPicPr/>
          <p:nvPr/>
        </p:nvPicPr>
        <p:blipFill>
          <a:blip r:embed="rId1"/>
          <a:stretch/>
        </p:blipFill>
        <p:spPr>
          <a:xfrm>
            <a:off x="1612800" y="1193760"/>
            <a:ext cx="1994040" cy="5664240"/>
          </a:xfrm>
          <a:prstGeom prst="rect">
            <a:avLst/>
          </a:prstGeom>
          <a:ln w="0">
            <a:noFill/>
          </a:ln>
        </p:spPr>
      </p:pic>
      <p:sp>
        <p:nvSpPr>
          <p:cNvPr id="1204" name="TextBox 4"/>
          <p:cNvSpPr/>
          <p:nvPr/>
        </p:nvSpPr>
        <p:spPr>
          <a:xfrm>
            <a:off x="4292640" y="1193760"/>
            <a:ext cx="67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,Noi ştim că unu ori unu fac unu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 un inorog ori o par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 ştim cât fa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tim că cinci fără patru fac unu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 un nor fără o corabi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 ştim cât fa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tim, noi ştim că op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mpărţit la opt fac unu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 un munte împărţit la o capr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 ştim cât fa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tim că unu plus unu fac doi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 eu şi cu tine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 ştim, vai, nu ştim cât facem.”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ichita Stănescu,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ă matematic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1"/>
          <p:cNvSpPr/>
          <p:nvPr/>
        </p:nvSpPr>
        <p:spPr>
          <a:xfrm>
            <a:off x="2336760" y="0"/>
            <a:ext cx="9855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ografie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coş, Constantin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agogie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itur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asi, 2006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 de limba şi literatura român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asele V-VIII, 201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el, Mariana, Bucurenciu, Petru, Dragu, Mihaela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Limba şi literatura român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a a VII-a,  Editur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m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19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a, Cătălina, Tofan, Onorica, Stancu, Aurelia, Bahrim, Mihaela, Corcăcel, Elena, Dragomir, Mirela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Limba şi literatura român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asa a VII-a, Editur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ui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19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âmihăian, Florentina, Dobra, Sofia, Halaszi, Monica, Davidoiu-Roman, Anca, Corcheş, Horia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Limba şi literatura român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asa a VII-a,  Editur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 Klet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19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su, Mina-Maria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BA ȘI LITERATURA ROMÂNĂ ÎN GIMNAZIU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icultăți, nedumeriri, soluții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. Gabriela Pană Dindelegan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matica limbii române pentru gimnazi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ur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 Enciclopedic Go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cureşti, 2019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. Valeria Guţu Romalo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matica limbii române I Cuvântu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ditur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ei Româ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cureşti, 201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TextBox 1"/>
          <p:cNvSpPr/>
          <p:nvPr/>
        </p:nvSpPr>
        <p:spPr>
          <a:xfrm>
            <a:off x="1905120" y="914400"/>
            <a:ext cx="934704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iective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analizei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ectarea conţinutului despre numeral din programa şcolară în Manualele de </a:t>
            </a:r>
            <a:r>
              <a:rPr b="0" i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ba şi literatura română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asa a VII-a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ul numeralului în unitatea de învăţare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a lecţiei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rtul teoretic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ul funcţional, pragmatic al sarcinilor de învăţar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TextBox 1"/>
          <p:cNvSpPr/>
          <p:nvPr/>
        </p:nvSpPr>
        <p:spPr>
          <a:xfrm>
            <a:off x="1841400" y="609480"/>
            <a:ext cx="9055080" cy="75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o-R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edarea problemelor noi, profesorul trebuie să se sprijine de fiecare dată pe actualizarea cunoştinţelor asimilate anterior de către elevi, pornind de la un text, de la o situaţie concretă de comunicare, şi nu de la noţiunile teoreti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3" name=""/>
          <p:cNvGraphicFramePr/>
          <p:nvPr/>
        </p:nvGraphicFramePr>
        <p:xfrm>
          <a:off x="1892160" y="0"/>
          <a:ext cx="11341080" cy="6862680"/>
        </p:xfrm>
        <a:graphic>
          <a:graphicData uri="http://schemas.openxmlformats.org/drawingml/2006/table">
            <a:tbl>
              <a:tblPr/>
              <a:tblGrid>
                <a:gridCol w="5499360"/>
                <a:gridCol w="5841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                                         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ATICĂ      V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AN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649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matica limbii române pentru gimnaz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rdonator Gabriela Pană Dindele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itura Univers Enciclopedic Gold, Bucure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şti, 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ele a V-a – a VI-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Cum recunoaştem un numeral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Clase de numerale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cardinale  - si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comp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ordinale -si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formate din numeralul cardinal+componentele 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...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la masculin) –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 –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la femin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Forma numerale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Categoria numărulu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Categoria genulu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 Categoria caz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ele a VII-a – a VIII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Posibilităţi combinatorii ale numeralului (valorile: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jectivală, substantivală, pronominal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Alte expresii cu num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ele a V-a – a VIII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Aspecte normative. Ortografie şi ortoe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Vocab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Aspecte ale variaţiei numeralulu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Numeralul şi alte părţi de vorbire. ,,Capcane în recunoaştere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i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ba şi literatura român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al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lasa a V-a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Editura Intuitext,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ri: C. Popa, O. Tofan, E. Corcăcel, V. Isa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ralul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definiţ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poate fi: cardinal şi ord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ralul cardinal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-simp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com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ibilităţi combinator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valoare substantival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valoare adjectival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funcţii sintactice: subiect, atri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ralul ordinal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definiţ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alcătu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ibilităţi combinator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valoare substantival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valoare adjectival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funcţii sintactice: subiect, atri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al,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lasa a VI-a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E.D.P,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ri: M. Norel, P. Bucurenciu, M. Drag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tuaţii unde apare numeralul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exerciţiu la numele predicativ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circumstanţiale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complementele necircumstanţia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2" descr=""/>
          <p:cNvPicPr/>
          <p:nvPr/>
        </p:nvPicPr>
        <p:blipFill>
          <a:blip r:embed="rId1"/>
          <a:stretch/>
        </p:blipFill>
        <p:spPr>
          <a:xfrm>
            <a:off x="3630600" y="2039760"/>
            <a:ext cx="4670280" cy="1067040"/>
          </a:xfrm>
          <a:prstGeom prst="rect">
            <a:avLst/>
          </a:prstGeom>
          <a:ln w="0">
            <a:noFill/>
          </a:ln>
        </p:spPr>
      </p:pic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592000" y="623520"/>
            <a:ext cx="9231480" cy="62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NUMERALUL</a:t>
            </a:r>
            <a:br>
              <a:rPr sz="2400"/>
            </a:br>
            <a:r>
              <a:rPr b="1" lang="ro-RO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ÎN  MANUALELE  DE  LIMBA  ŞI  LITERATURA  ROMÂNĂ </a:t>
            </a:r>
            <a:br>
              <a:rPr sz="2400"/>
            </a:br>
            <a:r>
              <a:rPr b="1" lang="ro-RO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CLASA a VII-a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6" name="Picture 3" descr=""/>
          <p:cNvPicPr/>
          <p:nvPr/>
        </p:nvPicPr>
        <p:blipFill>
          <a:blip r:embed="rId2"/>
          <a:stretch/>
        </p:blipFill>
        <p:spPr>
          <a:xfrm>
            <a:off x="6335640" y="3375000"/>
            <a:ext cx="4524480" cy="139716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4" descr=""/>
          <p:cNvPicPr/>
          <p:nvPr/>
        </p:nvPicPr>
        <p:blipFill>
          <a:blip r:embed="rId3"/>
          <a:stretch/>
        </p:blipFill>
        <p:spPr>
          <a:xfrm>
            <a:off x="3465360" y="5040360"/>
            <a:ext cx="4658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Box 1"/>
          <p:cNvSpPr/>
          <p:nvPr/>
        </p:nvSpPr>
        <p:spPr>
          <a:xfrm>
            <a:off x="2463840" y="876240"/>
            <a:ext cx="9042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area limbii române, în gimnaziu, trebuie realizată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tiv, fără teoretizări care depășesc particularitățile de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ârstă ale elevului și, implicit puterea lui de înțelegere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turbând procesul de învățare logică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9" name=""/>
          <p:cNvGraphicFramePr/>
          <p:nvPr/>
        </p:nvGraphicFramePr>
        <p:xfrm>
          <a:off x="2222640" y="719280"/>
          <a:ext cx="9969480" cy="6138720"/>
        </p:xfrm>
        <a:graphic>
          <a:graphicData uri="http://schemas.openxmlformats.org/drawingml/2006/table">
            <a:tbl>
              <a:tblPr/>
              <a:tblGrid>
                <a:gridCol w="4930560"/>
                <a:gridCol w="5038920"/>
              </a:tblGrid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UMERALUL ÎN UNITATEA DE ÎNVĂŢ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ditura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RAM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UNITATEA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AINELE LUM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5194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municare oral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egii de concepere şi de comprehensiune a textului 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Lectur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lexii asupra limbajului şi structurii textelor de tip li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ămara de fructe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Ion Pil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lecţii asupra limbajului şi structurii textelor de tip e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şul fantomelor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Victoria Schw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lemente de construcţie a comunicăr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ţie stilistică-în limba vorbită şi în limba scrisă. Termeni ştiinţifici; limbaj popular; variaţie regională a limb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dact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cturi textuale. Secvenţe de tip descriptiv. Stil: naturaleţe, eufonie, varietate, originalitate, concluz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lemente de construcţie a comunicăr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jectivul (actualiza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ificare. Topică. Posibilităţi combinatorii ale adjectivul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Numeralul (actualizare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o-RO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Posibilităţi combinator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Lectur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xt nonliterar. Recenzia. Monitorizarea propriei lectu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enzie 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ţul de cărţi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Markus Zus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lemente de construcţie a comunicăr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erbul (actualiza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jecţia. Onomatopeea. Interjecţia predicativ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apitul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0" name=""/>
          <p:cNvGraphicFramePr/>
          <p:nvPr/>
        </p:nvGraphicFramePr>
        <p:xfrm>
          <a:off x="2235240" y="0"/>
          <a:ext cx="9906120" cy="6858000"/>
        </p:xfrm>
        <a:graphic>
          <a:graphicData uri="http://schemas.openxmlformats.org/drawingml/2006/table">
            <a:tbl>
              <a:tblPr/>
              <a:tblGrid>
                <a:gridCol w="4887720"/>
                <a:gridCol w="501840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UMERALUL ÎN UNITATEA DE ÎNVĂŢ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ditura </a:t>
                      </a:r>
                      <a:r>
                        <a:rPr b="1" i="1" lang="ro-RO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TUI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UNITATEA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o-RO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ulturile se întâlnesc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585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xtul liric  -</a:t>
                      </a:r>
                      <a:r>
                        <a:rPr b="0" i="1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letul satului</a:t>
                      </a: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Lucian Bla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2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i="1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uarelă</a:t>
                      </a: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Ion Minules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bajul figurat. Repetiţia. Metaf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entarea unor secvenţe de text liter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erea unei emoţii. St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iect tematic: </a:t>
                      </a:r>
                      <a:r>
                        <a:rPr b="0" i="1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ţe cultur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miterea şi recunoaşterea emoţii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itudini comunicative – respect, toleranţ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jectivul. Adjectivul participial. Posibilităţi combinatorii ale adjectivulu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Numeralul. Posibilităţi combinatorii ale numeralulu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erb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jecţia. Onomatopeele. Interjecţia predicativ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apitul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285840" indent="-28584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3T11:02:00Z</dcterms:created>
  <dc:creator>Ionica</dc:creator>
  <dc:description/>
  <dc:language>en-US</dc:language>
  <cp:lastModifiedBy>Ionica</cp:lastModifiedBy>
  <dcterms:modified xsi:type="dcterms:W3CDTF">2019-11-17T11:06:08Z</dcterms:modified>
  <cp:revision>52</cp:revision>
  <dc:subject/>
  <dc:title>ŞCOALA GIMNAZIALĂ ,,IULIA HAŞDEU”, GALAŢI</dc:title>
</cp:coreProperties>
</file>